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391-FFB8-4F75-A00B-1E67FAF8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D2BC-56F8-4333-81D3-E51C4A13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37D6-569D-4C09-8A4B-E98422902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3218-E0DC-4C80-A9F0-7568D20F5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32E-ED1A-462C-B1C7-3CA660D7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EBB-A34B-4FBE-B734-88C67F3B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A4D-CD13-4A65-A600-DB15FC46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E99B-2BB0-4D9A-9CFF-0D9B61665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AC7-9CF2-4615-BD75-5E16E455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23EA-4364-43D1-A89A-6190EB0C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5587-E855-4BB4-8915-B23D1DC8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9954-BAF8-4B74-8A80-340BA6F7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2F2C-18EA-4A7A-BF0A-433EBEA34F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基于租户定制的访问控制模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告人：李金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谓词描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采用谓词进行策略描述，从表中所有行中选择满足谓词的行，表示用户可访问的数据范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给出简单谓词和关联谓词的定义，并利用参数化变量提高访问配置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简单谓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针对一个表定义的谓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子谓词。包括一个表的一个属性，例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mount &lt; 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谓词。由原子谓词组成，通过关键字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nd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接，既可以是一个表的一个属性，也可以使一个表的多个属性，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mount &gt; 500 and type = ‘digital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关联谓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些访问策略根据主体的属性确定客体的访问范围。主体与客体往往是分离的，通常利用关系表建立起两个实体表之间的关联。这时候，直接对客体表进行访问控制描述，往往无从下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关联谓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，要对部门经理只能看到本部门的订单。表的描述方式如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rders(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orderi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type, amou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mployee(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employeei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name, depart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anager(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employeeid, departmen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mployee_Orders(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employeeid, orderi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接利用谓词的方式对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rders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判断，无法确定哪个订单是由哪个部门完成的，这个时候就需要表的关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elect Orders.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rom </a:t>
            </a:r>
            <a:r>
              <a:rPr b="0" lang="zh-CN" sz="2800" spc="-1" strike="noStrike">
                <a:solidFill>
                  <a:srgbClr val="ff7c80"/>
                </a:solidFill>
                <a:latin typeface="Times New Roman"/>
                <a:ea typeface="楷体_GB2312"/>
              </a:rPr>
              <a:t>Orders, Employee, Manager, Employee_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Orders.orderid = Employee_Orders.orderid and  Employee_Orders.employeeid = Employee.employeeid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Employee.department = Manager.department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	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Manger.employeeid = $use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关联谓词对部门经理可以访问的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订单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控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629400" y="152388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联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943600" y="18288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22860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3352680"/>
            <a:ext cx="73152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6477120" y="3048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10280" y="28195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联谓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1828800"/>
            <a:ext cx="1523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访问控制模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原有的一种访问控制策略下，考生只能看到自己的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同一用户，在同一页面，对一个表的一个列的访问规则会有不同。例如考生课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成绩和课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最高分都是对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Grad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grad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列的访问。这时需要两种访问策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种是学生只能查看自己的课程成绩，另一种是从本门课程的所有成绩中选取最高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基于页面数据模型的访问控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页面数据模型是页面展示与数据存储的接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90720" y="1981080"/>
          <a:ext cx="5943600" cy="467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1981080"/>
                    <a:ext cx="594360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提出两级访问控制策略模型，在统一访问控制模型的基础上，给出基于页面数据模型的访问控制策略模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统一模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租户对每个表，建立谓词访问规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ype 1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全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;  2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普通谓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; 3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关联谓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租户对每个角色，选择对每个表的访问控制策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09480" y="2590920"/>
          <a:ext cx="7924680" cy="1457280"/>
        </p:xfrm>
        <a:graphic>
          <a:graphicData uri="http://schemas.openxmlformats.org/drawingml/2006/table">
            <a:tbl>
              <a:tblPr/>
              <a:tblGrid>
                <a:gridCol w="1065240"/>
                <a:gridCol w="1144440"/>
                <a:gridCol w="609840"/>
                <a:gridCol w="1752480"/>
                <a:gridCol w="1371600"/>
                <a:gridCol w="1371600"/>
                <a:gridCol w="609480"/>
              </a:tblGrid>
              <a:tr h="5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icy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ic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tedTab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edPr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d=$user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1600200" y="5029200"/>
          <a:ext cx="4038480" cy="9064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e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icy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基于页面数据模型的访问控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页面数据模型中的属性，如果访问规则与统一访问规则不同，租户可以单独建立访问规则，满足不同场景下的特殊访问需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267080" y="3505320"/>
          <a:ext cx="4876920" cy="1066680"/>
        </p:xfrm>
        <a:graphic>
          <a:graphicData uri="http://schemas.openxmlformats.org/drawingml/2006/table">
            <a:tbl>
              <a:tblPr/>
              <a:tblGrid>
                <a:gridCol w="1108080"/>
                <a:gridCol w="1405080"/>
                <a:gridCol w="1143000"/>
                <a:gridCol w="122076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icy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ewGra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0" y="3048120"/>
          <a:ext cx="3733920" cy="22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048120"/>
                    <a:ext cx="3733920" cy="22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200400" y="4038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告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研究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访问规则存储模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838080" y="1600200"/>
          <a:ext cx="8032680" cy="1400040"/>
        </p:xfrm>
        <a:graphic>
          <a:graphicData uri="http://schemas.openxmlformats.org/drawingml/2006/table">
            <a:tbl>
              <a:tblPr/>
              <a:tblGrid>
                <a:gridCol w="990720"/>
                <a:gridCol w="838080"/>
                <a:gridCol w="609480"/>
                <a:gridCol w="1067040"/>
                <a:gridCol w="1523880"/>
                <a:gridCol w="1760400"/>
                <a:gridCol w="1243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icyi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dica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tedTab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latedPredicat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914400" y="5105520"/>
          <a:ext cx="6019920" cy="974520"/>
        </p:xfrm>
        <a:graphic>
          <a:graphicData uri="http://schemas.openxmlformats.org/drawingml/2006/table">
            <a:tbl>
              <a:tblPr/>
              <a:tblGrid>
                <a:gridCol w="1503360"/>
                <a:gridCol w="1504800"/>
                <a:gridCol w="1505160"/>
                <a:gridCol w="150660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m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icy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3520" y="3124080"/>
            <a:ext cx="4114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统一访问控制存储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4343400"/>
            <a:ext cx="5638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于页面数据模型的访问控制存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38080" y="3581280"/>
          <a:ext cx="4038480" cy="7905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e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icyi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533520" y="121932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策略存储模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访问控制实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引擎截取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QL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性：基于页面数据模型访问控制描述的，进行访问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剩余属性，进行统一模型访问控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题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aaS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式下，租户为满足不同用户的访问需求，可以自定制用户数据权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有工作基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838080" y="3124080"/>
          <a:ext cx="7696440" cy="263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3124080"/>
                    <a:ext cx="7696440" cy="26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问题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细粒度访问控制的一种方式是根据授权视图或访问控制列表，隐式的修改用户查询语句。但是，这种方式存在一个问题是，对于一些聚集语句，隐式修改查询语句会改变语句原有的含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295280" y="2286000"/>
          <a:ext cx="6782040" cy="2286000"/>
        </p:xfrm>
        <a:graphic>
          <a:graphicData uri="http://schemas.openxmlformats.org/drawingml/2006/table">
            <a:tbl>
              <a:tblPr/>
              <a:tblGrid>
                <a:gridCol w="1844640"/>
                <a:gridCol w="1889280"/>
                <a:gridCol w="3048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dent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rse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0481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5720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获取课程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高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 max(grade) from Gra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ere courseid = ‘1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11430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访问控制策略：学生只能查看自己的成绩。学生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: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红色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: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蓝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914400" y="5638680"/>
            <a:ext cx="33526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3962520"/>
            <a:ext cx="8229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获取课程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高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 max(grade) from Gra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ere courseid = ‘1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nd studentid = ‘1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066680" y="1600200"/>
          <a:ext cx="6782040" cy="2281320"/>
        </p:xfrm>
        <a:graphic>
          <a:graphicData uri="http://schemas.openxmlformats.org/drawingml/2006/table">
            <a:tbl>
              <a:tblPr/>
              <a:tblGrid>
                <a:gridCol w="1844640"/>
                <a:gridCol w="1889280"/>
                <a:gridCol w="3048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dent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rse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30481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96080" y="2514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执行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7619760" y="2209320"/>
            <a:ext cx="685800" cy="381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91320" y="51055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添加访问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267080" y="5410080"/>
            <a:ext cx="160020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14400" y="5638680"/>
            <a:ext cx="33526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6680" y="1600200"/>
          <a:ext cx="6782040" cy="2279520"/>
        </p:xfrm>
        <a:graphic>
          <a:graphicData uri="http://schemas.openxmlformats.org/drawingml/2006/table">
            <a:tbl>
              <a:tblPr/>
              <a:tblGrid>
                <a:gridCol w="1844640"/>
                <a:gridCol w="1889280"/>
                <a:gridCol w="3048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udent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urse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d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</a:tr>
            </a:tbl>
          </a:graphicData>
        </a:graphic>
      </p:graphicFrame>
      <p:sp>
        <p:nvSpPr>
          <p:cNvPr id="68" name=""/>
          <p:cNvSpPr/>
          <p:nvPr/>
        </p:nvSpPr>
        <p:spPr>
          <a:xfrm>
            <a:off x="457200" y="39625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获取课程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高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elect max(grade) from Gra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here courseid = ‘1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nd studentid = ‘1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0384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实际最高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5486400" y="3200400"/>
            <a:ext cx="1905120" cy="9144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96080" y="2514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执行结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7619760" y="2209320"/>
            <a:ext cx="685800" cy="381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267080" y="5410080"/>
            <a:ext cx="160020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5105520"/>
            <a:ext cx="236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添加访问控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解决这个问题，利用租户的定制操作，本文提出一种针对页面的数据模型进行策略定制的方式，满足同一页面中属性的不同访问需求。而且，扩展了谓词定义的方式，提出关联谓词。最后，通过查询改写实现访问控制，并给出性能的评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控制策略描述方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授权视图，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aaS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式下不适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大宽表存储业务数据，列的含义要根据元数据，很难直接针对物理视图建立授权视图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谓词描述的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便租户定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于访问控制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jc</cp:lastModifiedBy>
  <dcterms:modified xsi:type="dcterms:W3CDTF">2012-06-06T05:41:11Z</dcterms:modified>
  <cp:revision>9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